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607160" y="2946240"/>
            <a:ext cx="4127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2812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3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2976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12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8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4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096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1796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40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762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72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928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596520" y="49399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596520" y="179028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739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3660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21520" indent="-36936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24208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teachweb2.blogspot.com/" TargetMode="External"/><Relationship Id="rId6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hyperlink" Target="http://www.teachweb2.blogspot.com/" TargetMode="External"/><Relationship Id="rId1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teachweb2.blogspot.com/" TargetMode="External"/><Relationship Id="rId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K-12 On-line Conference 2008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69720" y="5207040"/>
            <a:ext cx="1046484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amera Detrick-Posthumu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On a MacBookPro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est Laptop Ever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34880" indent="-43488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choolHouse Cursive B"/>
                <a:ea typeface="SchoolHouse Cursive B"/>
              </a:rPr>
              <a:t>“</a:t>
            </a:r>
            <a:r>
              <a:rPr b="0" lang="en-US" sz="4800" spc="-1" strike="noStrike">
                <a:solidFill>
                  <a:srgbClr val="ffffff"/>
                </a:solidFill>
                <a:latin typeface="SchoolHouse Cursive B"/>
                <a:ea typeface="SchoolHouse Cursive B"/>
              </a:rPr>
              <a:t>Kicking It Up a Notch Film School for Video Podcasters”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5580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Using Video Podcasting to Encourage Abstract Thinking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Media Analysi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Planning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onveying Emotion and Deeper Meaning Using a Visual Media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34880" indent="-43488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choolHouse Cursive B"/>
                <a:ea typeface="SchoolHouse Cursive B"/>
              </a:rPr>
              <a:t>Kicking It Up a Notch Film School for Video Podcasters”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cff51"/>
                </a:solidFill>
                <a:latin typeface="Chalkboard"/>
              </a:rPr>
              <a:t>Show, NOT TELL Information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Planning Through Storyboard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ne Motor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ome Writing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34880" indent="-43488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choolHouse Cursive B"/>
                <a:ea typeface="SchoolHouse Cursive B"/>
              </a:rPr>
              <a:t>Kicking It Up a Notch Film School for Video Podcasters”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ff69"/>
                </a:solidFill>
                <a:latin typeface="Chalkboard"/>
              </a:rPr>
              <a:t>Show, NOT TELL Information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Non-Verbal Communication Skill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acial Communication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Body Language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54304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pacing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54304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Position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34880" indent="-43488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choolHouse Cursive B"/>
                <a:ea typeface="SchoolHouse Cursive B"/>
              </a:rPr>
              <a:t>Kicking It Up a Notch Film School for Video Podcasters”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Primary Source of Learning Social Literature No Longer from Books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Visual Media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YouTube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Movie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Video Game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0" name=""/>
          <p:cNvSpPr/>
          <p:nvPr/>
        </p:nvSpPr>
        <p:spPr>
          <a:xfrm>
            <a:off x="7315560" y="4148640"/>
            <a:ext cx="3036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ffff00"/>
                </a:solidFill>
                <a:uFillTx/>
                <a:latin typeface="Chalkboard"/>
                <a:ea typeface="Chalkboard"/>
              </a:rPr>
              <a:t>http://k12onlineconference.org/?p=329</a:t>
            </a:r>
            <a:endParaRPr b="0" lang="en-US" sz="13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34880" indent="-43488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choolHouse Cursive B"/>
                <a:ea typeface="SchoolHouse Cursive B"/>
              </a:rPr>
              <a:t>Kicking It Up a Notch Film School for Video Podcasters”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8ff6f"/>
                </a:solidFill>
                <a:latin typeface="Chalkboard"/>
              </a:rPr>
              <a:t>Use Media Production to Teach Media Literacy = Exposition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hoosing Shots for Emotional Response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hoosing Lighting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lashbacks, Superimposing, Effect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34880" indent="-43488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choolHouse Cursive B"/>
                <a:ea typeface="SchoolHouse Cursive B"/>
              </a:rPr>
              <a:t>Kicking It Up a Notch Film School for Video Podcasters”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0ff5e"/>
                </a:solidFill>
                <a:latin typeface="Chalkboard"/>
              </a:rPr>
              <a:t>Composition for Esthetics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Rule of Third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ubjects at intersecting lines of grid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Reflected Lighting Use 3 Lights to Avoid Harsh Shadow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ound Benefits from External Uni - Mic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34880" indent="-43488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choolHouse Cursive B"/>
                <a:ea typeface="SchoolHouse Cursive B"/>
              </a:rPr>
              <a:t>Kicking It Up a Notch Film School for Video Podcasters”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 Disagree with His Insistence to Avoid Digital Cameras - Newer Computer Programs Solve the Editing Issues.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1269720" y="825120"/>
            <a:ext cx="10464840" cy="786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“</a:t>
            </a: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I’ve Had an Ephiphany about Emergent Learning”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“</a:t>
            </a: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Kicking It Up a Notch Film School for Video Podcasters”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70080" y="507600"/>
            <a:ext cx="9601200" cy="2235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SchoolHouse Printed A"/>
                <a:ea typeface="SchoolHouse Printed A"/>
              </a:rPr>
              <a:t>“</a:t>
            </a:r>
            <a:r>
              <a:rPr b="0" lang="en-US" sz="6400" spc="-1" strike="noStrike">
                <a:solidFill>
                  <a:srgbClr val="ffffff"/>
                </a:solidFill>
                <a:latin typeface="SchoolHouse Printed A"/>
                <a:ea typeface="SchoolHouse Printed A"/>
              </a:rPr>
              <a:t>I’ve Had an Epiphany about Emergent Learning”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SchoolHouse Printed 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As we get older, we are less likely to see things in black and white, bu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Humans feel the “need to simplify complex ideas”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431280"/>
            <a:ext cx="10109160" cy="231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SchoolHouse Printed A"/>
                <a:ea typeface="SchoolHouse Printed A"/>
              </a:rPr>
              <a:t>“</a:t>
            </a:r>
            <a:r>
              <a:rPr b="0" lang="en-US" sz="6400" spc="-1" strike="noStrike">
                <a:solidFill>
                  <a:srgbClr val="ffffff"/>
                </a:solidFill>
                <a:latin typeface="SchoolHouse Printed A"/>
                <a:ea typeface="SchoolHouse Printed A"/>
              </a:rPr>
              <a:t>I’ve Had an Epiphany about Emergent Learning”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SchoolHouse Printed 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48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How can we apply the concepts of social networking to the learning environment?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4348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4348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How can We Answer Parents’ and Students’ Questions about the Validity of Non-textbook Based Learning?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69720" y="520560"/>
            <a:ext cx="9677160" cy="222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SchoolHouse Printed A"/>
                <a:ea typeface="SchoolHouse Printed A"/>
              </a:rPr>
              <a:t>“</a:t>
            </a:r>
            <a:r>
              <a:rPr b="0" lang="en-US" sz="6400" spc="-1" strike="noStrike">
                <a:solidFill>
                  <a:srgbClr val="ffffff"/>
                </a:solidFill>
                <a:latin typeface="SchoolHouse Printed A"/>
                <a:ea typeface="SchoolHouse Printed A"/>
              </a:rPr>
              <a:t>I’ve Had an Epiphany about Emergent Learning”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SchoolHouse Printed 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69720" y="3048120"/>
            <a:ext cx="971532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ff5a"/>
                </a:solidFill>
                <a:latin typeface="Chalkboard"/>
              </a:rPr>
              <a:t>HIDE ‘N SEEKING for Empowermen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4"/>
          <a:stretch/>
        </p:blipFill>
        <p:spPr>
          <a:xfrm>
            <a:off x="1219320" y="4229280"/>
            <a:ext cx="5079960" cy="317484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5"/>
          <a:stretch/>
        </p:blipFill>
        <p:spPr>
          <a:xfrm>
            <a:off x="6883560" y="5245200"/>
            <a:ext cx="5079960" cy="34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70080" y="203040"/>
            <a:ext cx="10096560" cy="2654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SchoolHouse Printed A"/>
                <a:ea typeface="SchoolHouse Printed A"/>
              </a:rPr>
              <a:t>“</a:t>
            </a:r>
            <a:r>
              <a:rPr b="0" lang="en-US" sz="6400" spc="-1" strike="noStrike">
                <a:solidFill>
                  <a:srgbClr val="ffffff"/>
                </a:solidFill>
                <a:latin typeface="SchoolHouse Printed A"/>
                <a:ea typeface="SchoolHouse Printed A"/>
              </a:rPr>
              <a:t>I’ve Had an Epiphany about Emergent Learning”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SchoolHouse Printed 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18960" y="2945880"/>
            <a:ext cx="542268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Being Connected to the Learning Environmen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We Teach in the Green Section, which Causes the Red Section, Which Creates Discomfor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5"/>
          <a:stretch/>
        </p:blipFill>
        <p:spPr>
          <a:xfrm>
            <a:off x="7759800" y="3670200"/>
            <a:ext cx="4521240" cy="50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70080" y="203040"/>
            <a:ext cx="96264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SchoolHouse Printed A"/>
                <a:ea typeface="SchoolHouse Printed A"/>
              </a:rPr>
              <a:t>“</a:t>
            </a:r>
            <a:r>
              <a:rPr b="0" lang="en-US" sz="6400" spc="-1" strike="noStrike">
                <a:solidFill>
                  <a:srgbClr val="ffffff"/>
                </a:solidFill>
                <a:latin typeface="SchoolHouse Printed A"/>
                <a:ea typeface="SchoolHouse Printed A"/>
              </a:rPr>
              <a:t>I’ve Had an Epiphany about Emergent Learning”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SchoolHouse Printed 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671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48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Most of our students individually learn knowledge-level information in a passive manner.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43488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f53"/>
                </a:solidFill>
                <a:latin typeface="Chalkboard Bold"/>
                <a:ea typeface="Chalkboard Bold"/>
              </a:rPr>
              <a:t>ESSENTIAL QUESTION: How do we move our students toward the lower right corner where they can actively experience learning with others?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375912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halkboard Bold"/>
                <a:ea typeface="Chalkboard Bold"/>
                <a:hlinkClick r:id="rId5"/>
              </a:rPr>
              <a:t>http://www.teachweb2.blogspot.com</a:t>
            </a:r>
            <a:r>
              <a:rPr b="0" lang="en-US" sz="1800" spc="-1" strike="noStrike">
                <a:solidFill>
                  <a:srgbClr val="faff53"/>
                </a:solidFill>
                <a:latin typeface="Chalkboard Bold"/>
                <a:ea typeface="Chalkboard Bold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  <a:p>
            <a:pPr marL="4348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9720" y="202680"/>
            <a:ext cx="9118440" cy="242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SchoolHouse Printed A"/>
                <a:ea typeface="SchoolHouse Printed A"/>
              </a:rPr>
              <a:t>“</a:t>
            </a:r>
            <a:r>
              <a:rPr b="0" lang="en-US" sz="6400" spc="-1" strike="noStrike">
                <a:solidFill>
                  <a:srgbClr val="ffffff"/>
                </a:solidFill>
                <a:latin typeface="SchoolHouse Printed A"/>
                <a:ea typeface="SchoolHouse Printed A"/>
              </a:rPr>
              <a:t>I’ve Had an Epiphany about Emergent Learning”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SchoolHouse Printed 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269720" y="1422360"/>
            <a:ext cx="10464840" cy="826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requent Interactive Exercise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Must Have Feedback which Promotes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Thinking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Reflecting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Conversation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Interaction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Demonstrating Evidence  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8" name=""/>
          <p:cNvSpPr/>
          <p:nvPr/>
        </p:nvSpPr>
        <p:spPr>
          <a:xfrm>
            <a:off x="6438960" y="6570000"/>
            <a:ext cx="448128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ff7c"/>
                </a:solidFill>
                <a:latin typeface="Chalkboard"/>
                <a:ea typeface="Chalkboard"/>
              </a:rPr>
              <a:t> </a:t>
            </a:r>
            <a:r>
              <a:rPr b="0" lang="en-US" sz="1300" spc="-1" strike="noStrike" u="sng">
                <a:solidFill>
                  <a:srgbClr val="009999"/>
                </a:solidFill>
                <a:uFillTx/>
                <a:latin typeface="Chalkboard"/>
                <a:ea typeface="Chalkboard"/>
                <a:hlinkClick r:id="rId11"/>
              </a:rPr>
              <a:t>http://www.teachweb2.blogspot.com</a:t>
            </a:r>
            <a:r>
              <a:rPr b="0" lang="en-US" sz="1300" spc="-1" strike="noStrike">
                <a:solidFill>
                  <a:srgbClr val="d9ff7c"/>
                </a:solidFill>
                <a:latin typeface="Chalkboard"/>
                <a:ea typeface="Chalkboard"/>
              </a:rPr>
              <a:t>/</a:t>
            </a:r>
            <a:endParaRPr b="0" lang="en-US" sz="13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70080" y="495000"/>
            <a:ext cx="10198080" cy="162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34880" indent="-434880" algn="ctr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choolHouse Printed A"/>
                <a:ea typeface="SchoolHouse Printed A"/>
              </a:rPr>
              <a:t>“</a:t>
            </a:r>
            <a:r>
              <a:rPr b="0" lang="en-US" sz="4800" spc="-1" strike="noStrike">
                <a:solidFill>
                  <a:srgbClr val="ffffff"/>
                </a:solidFill>
                <a:latin typeface="SchoolHouse Printed A"/>
                <a:ea typeface="SchoolHouse Printed A"/>
              </a:rPr>
              <a:t>I’ve Had an Epiphany about Emergent Learning”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269720" y="2235240"/>
            <a:ext cx="10464840" cy="707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856080" indent="-41724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 Bold"/>
                <a:ea typeface="Chalkboard Bold"/>
              </a:rPr>
              <a:t>Perhaps we should...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856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ヒラギノ角ゴ ProN W3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1.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ヒラギノ角ゴ ProN W3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focus our teaching time on effective methods for building a personal learning environment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856080" indent="0">
              <a:lnSpc>
                <a:spcPts val="2500"/>
              </a:lnSpc>
              <a:spcBef>
                <a:spcPts val="2999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856080" indent="0">
              <a:lnSpc>
                <a:spcPts val="2500"/>
              </a:lnSpc>
              <a:spcBef>
                <a:spcPts val="2999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ヒラギノ角ゴ ProN W3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2. provide guidance and feedback as our students create this environment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856080" indent="0">
              <a:lnSpc>
                <a:spcPts val="2500"/>
              </a:lnSpc>
              <a:spcBef>
                <a:spcPts val="2999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856080" indent="0">
              <a:lnSpc>
                <a:spcPts val="2500"/>
              </a:lnSpc>
              <a:spcBef>
                <a:spcPts val="2999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ヒラギノ角ゴ ProN W3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3.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ヒラギノ角ゴ ProN W3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 offer support and challenge students to push themselves further, especially when they fail to take ownership of the learning process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856080" indent="0">
              <a:lnSpc>
                <a:spcPts val="2500"/>
              </a:lnSpc>
              <a:spcBef>
                <a:spcPts val="2999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  <a:p>
            <a:pPr marL="856080" indent="0">
              <a:lnSpc>
                <a:spcPts val="2500"/>
              </a:lnSpc>
              <a:spcBef>
                <a:spcPts val="2999"/>
              </a:spcBef>
              <a:buNone/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  <a:ea typeface="ヒラギノ角ゴ ProN W3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4. share in their successes and provide additional avenues for sharing with others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1" name=""/>
          <p:cNvSpPr/>
          <p:nvPr/>
        </p:nvSpPr>
        <p:spPr>
          <a:xfrm>
            <a:off x="6908760" y="2391480"/>
            <a:ext cx="448164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1438200" indent="-4348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54"/>
                </a:solidFill>
                <a:latin typeface="Chalkboard"/>
                <a:ea typeface="Chalkboard"/>
              </a:rPr>
              <a:t> </a:t>
            </a:r>
            <a:r>
              <a:rPr b="0" lang="en-US" sz="1300" spc="-1" strike="noStrike" u="sng">
                <a:solidFill>
                  <a:srgbClr val="009999"/>
                </a:solidFill>
                <a:uFillTx/>
                <a:latin typeface="Chalkboard"/>
                <a:ea typeface="Chalkboard"/>
                <a:hlinkClick r:id="rId5"/>
              </a:rPr>
              <a:t>http://www.teachweb2.blogspot.com</a:t>
            </a:r>
            <a:r>
              <a:rPr b="0" lang="en-US" sz="1300" spc="-1" strike="noStrike">
                <a:solidFill>
                  <a:srgbClr val="e5ff54"/>
                </a:solidFill>
                <a:latin typeface="Chalkboard"/>
                <a:ea typeface="Chalkboard"/>
              </a:rPr>
              <a:t>/</a:t>
            </a:r>
            <a:endParaRPr b="0" lang="en-US" sz="13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